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A363-6EC0-40BC-87F2-17E423670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777E-C86A-4FBA-B611-2C8435F95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29AD-E7C0-49A4-B317-B06EA2EE2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E482-83F7-4B52-BE91-A4DCE3C0F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8119-20DE-40AB-A04F-BFC46B9F7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113C-F213-4747-8D81-2FF7A2831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1F4B-6F7B-44BF-9C19-075FF1C3D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9526-6DB8-40B0-BC00-4903C8643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24BC-1CF0-455B-8D45-60DA9641B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E72A-4EEB-4044-A9A8-A07778B69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1BE9-ADBF-43CA-8B96-57CFFA6EE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3DE9-902D-47D6-8B4B-9088F8820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E69D-7414-44A4-A642-1621A593B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EE78-4277-4C06-BC5D-F8185ED20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99F4-7EDA-4B73-AAC8-EF78D73AD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8A1F-C765-43D1-BE63-17178A611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C3A7-31FA-4882-875C-4317416C8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5B7E-8619-437B-985B-D30528537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7A47-0048-4313-9DB4-C5CE2CB34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EB3E-F3BB-4991-B3BB-77810A385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4258-A905-44FB-94FC-CAE775AAE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A4FFD-3CEF-4928-B2AC-21F19158E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1DFB7-A1F8-4300-939E-10DC3F883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6D2D4-8FBA-486E-A43F-F7EED602E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A8DA-65BB-4425-BF16-7E44B1D63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CDEE-ABC6-46A1-BA64-B20D5238C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8FC6-B249-44BE-9FAC-D7B68F8CE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B6FA7-8D7B-40E8-A5F9-A59AEA3F0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A73C-D536-47A7-B11D-F1044C954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0275-018B-4F57-BA67-FBB14B537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6CA6-4B02-4545-BB16-F6EA815E7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569C-B727-4F82-8145-644CC1D5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8F8B-3F9E-4B65-ACD5-36F63CC45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D5A7-8B46-4472-AA75-C402CB0D78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flickr.com/photos/mcleod/3819601105/in/pool-858082@N25/" TargetMode="External"/><Relationship Id="rId2" Type="http://schemas.openxmlformats.org/officeDocument/2006/relationships/hyperlink" Target="http://www.flickr.com/photos/36076390@N07/3832270236/in/pool-858082@N25" TargetMode="External"/><Relationship Id="rId3" Type="http://schemas.openxmlformats.org/officeDocument/2006/relationships/hyperlink" Target="http://www.flickr.com/photos/36076390@N07/3832270170/sizes/o/in/pool-858082@N25/" TargetMode="External"/><Relationship Id="rId4" Type="http://schemas.openxmlformats.org/officeDocument/2006/relationships/hyperlink" Target="http://www.flickr.com/photos/bdieu/2655551439/sizes/o/in/pool-858082@N25/" TargetMode="External"/><Relationship Id="rId5" Type="http://schemas.openxmlformats.org/officeDocument/2006/relationships/hyperlink" Target="http://www.flickr.com/photos/mcleod/2919154295/sizes/o/in/pool-858082@N25/" TargetMode="External"/><Relationship Id="rId6" Type="http://schemas.openxmlformats.org/officeDocument/2006/relationships/hyperlink" Target="http://4.bp.blogspot.com/_qD9Y8Ncd3I4/SYxd9Dvlt9I/AAAAAAAAB-I/W84MmsH0Gs0/s400/GlobalEducationDelaney.gif" TargetMode="External"/><Relationship Id="rId7" Type="http://schemas.openxmlformats.org/officeDocument/2006/relationships/hyperlink" Target="http://www.otromundoesposible.net/default.php?mod=magazine_detail&amp;id=512" TargetMode="External"/><Relationship Id="rId8" Type="http://schemas.openxmlformats.org/officeDocument/2006/relationships/hyperlink" Target="http://www.wordle.net/" TargetMode="External"/><Relationship Id="rId9" Type="http://schemas.openxmlformats.org/officeDocument/2006/relationships/hyperlink" Target="http://www.homeofbob.com/literature/esl/icebergCulture.gif" TargetMode="External"/><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2"/>
          <p:cNvSpPr/>
          <p:nvPr/>
        </p:nvSpPr>
        <p:spPr>
          <a:xfrm>
            <a:off x="1295280" y="304920"/>
            <a:ext cx="693432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Global Competen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Learn "with" the worl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not just "about" the world."</a:t>
            </a:r>
            <a:endParaRPr b="0" lang="en-US" sz="2800" spc="-1" strike="noStrike">
              <a:solidFill>
                <a:srgbClr val="000000"/>
              </a:solidFill>
              <a:latin typeface="Arial"/>
            </a:endParaRPr>
          </a:p>
        </p:txBody>
      </p:sp>
      <p:sp>
        <p:nvSpPr>
          <p:cNvPr id="49" name="Rectangle 3"/>
          <p:cNvSpPr/>
          <p:nvPr/>
        </p:nvSpPr>
        <p:spPr>
          <a:xfrm>
            <a:off x="3200400" y="5486400"/>
            <a:ext cx="3124080" cy="1067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ni Theis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High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sent@gmai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609480" y="5181480"/>
            <a:ext cx="7391520" cy="1435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We should think of schools as global enterprises, not local entities, and draw on global resources.</a:t>
            </a:r>
            <a:r>
              <a:rPr b="0" lang="ja-JP"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Yong Zhao-</a:t>
            </a:r>
            <a:r>
              <a:rPr b="0" i="1" lang="en-US" sz="2000" spc="-1" strike="noStrike">
                <a:solidFill>
                  <a:srgbClr val="000000"/>
                </a:solidFill>
                <a:latin typeface="Arial"/>
              </a:rPr>
              <a:t>Catching Up or Leading the Way: American Education in the Age of Glob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383040" y="4191120"/>
            <a:ext cx="7871040" cy="18010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The United States is busy closing the achievement ga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n countries are busy closing the creativity gap.</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ng Zhao-</a:t>
            </a:r>
            <a:r>
              <a:rPr b="0" i="1" lang="en-US" sz="2000" spc="-1" strike="noStrike">
                <a:solidFill>
                  <a:srgbClr val="000000"/>
                </a:solidFill>
                <a:latin typeface="Arial"/>
              </a:rPr>
              <a:t>Catching Up or Leading the Way: American Edu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n the Age of Glob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 Step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for authentic student work that demonstrates global compet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the Council of Chief State School Offi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Competency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4"/>
          <p:cNvSpPr/>
          <p:nvPr/>
        </p:nvSpPr>
        <p:spPr>
          <a:xfrm>
            <a:off x="1367280" y="7086600"/>
            <a:ext cx="6206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teps: http://www.edsteps.org/CCSSO/Home.asp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bal Resources</a:t>
            </a:r>
            <a:endParaRPr b="0" lang="en-US" sz="4400" spc="-1" strike="noStrike">
              <a:solidFill>
                <a:srgbClr val="000000"/>
              </a:solidFill>
              <a:latin typeface="Arial"/>
            </a:endParaRPr>
          </a:p>
        </p:txBody>
      </p:sp>
      <p:sp>
        <p:nvSpPr>
          <p:cNvPr id="70"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ation 10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a Socie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fam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Education Collaborative 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Forum for Global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Global Competence Webs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an Youth Port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bal Participation</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RN (International Education and Resourc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Nomads Group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It Glob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E Program (Science Collaborative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74" name="PlaceHolder 2"/>
          <p:cNvSpPr>
            <a:spLocks noGrp="1"/>
          </p:cNvSpPr>
          <p:nvPr>
            <p:ph/>
          </p:nvPr>
        </p:nvSpPr>
        <p:spPr>
          <a:xfrm>
            <a:off x="533520" y="1981080"/>
            <a:ext cx="8076960" cy="4114800"/>
          </a:xfrm>
          <a:prstGeom prst="rect">
            <a:avLst/>
          </a:prstGeom>
          <a:noFill/>
          <a:ln w="0">
            <a:noFill/>
          </a:ln>
        </p:spPr>
        <p:txBody>
          <a:bodyPr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re we preparing our students to meet global challenges?</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we influence what happens in our schools when global competency is the topic of discussion?</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implications for profession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76" name="PlaceHolder 2"/>
          <p:cNvSpPr>
            <a:spLocks noGrp="1"/>
          </p:cNvSpPr>
          <p:nvPr>
            <p:ph/>
          </p:nvPr>
        </p:nvSpPr>
        <p:spPr>
          <a:xfrm>
            <a:off x="380880" y="990720"/>
            <a:ext cx="8229600" cy="53337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flickr.com/photos/mcleod/3819601105/in/pool-858082@N25/</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flickr.com/photos/36076390@N07/3832270236/in/pool-858082@N25</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http://www.flickr.com/photos/36076390@N07/3832270170/sizes/o/in/pool-858082@N25/</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http://www.flickr.com/photos/bdieu/2655551439/sizes/o/in/pool-858082@N25/</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http://www.flickr.com/photos/mcleod/2919154295/sizes/o/in/pool-858082@N25/</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http://4.bp.blogspot.com/_qD9Y8Ncd3I4/SYxd9Dvlt9I/AAAAAAAAB-I/W84MmsH0Gs0/s400/GlobalEducationDelaney.gif</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7"/>
              </a:rPr>
              <a:t>http://www.otromundoesposible.net/default.php?mod=magazine_detail&amp;id=512</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8"/>
              </a:rPr>
              <a:t>http://www.wordle.n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9"/>
              </a:rPr>
              <a:t>http://www.homeofbob.com/literature/esl/icebergCulture.gif</a:t>
            </a:r>
            <a:r>
              <a:rPr b="0" lang="en-US" sz="1400" spc="-1" strike="noStrike">
                <a:solidFill>
                  <a:srgbClr val="000000"/>
                </a:solidFill>
                <a:latin typeface="Arial"/>
              </a:rPr>
              <a:t> http://www.flickr.com/photos/foxspain/3219577797/sizes/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obhran.com/images2/kidssrule-2.jpg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charena.in/files/image/news/global_collaboration.jpg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dsteps.org/CCSSO/ManageContent.aspx?system_name=I5nka44NofDD3IY38QBonx+Crwfdw+uF&amp;selected_system_name=DRkDdjiObdU= </a:t>
            </a:r>
            <a:endParaRPr b="0" lang="en-US" sz="16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ni Theisen</a:t>
            </a:r>
            <a:r>
              <a:rPr b="1" lang="ja-JP" sz="4400" spc="-1" strike="noStrike">
                <a:solidFill>
                  <a:srgbClr val="000000"/>
                </a:solidFill>
                <a:latin typeface="Arial"/>
              </a:rPr>
              <a:t>’</a:t>
            </a:r>
            <a:r>
              <a:rPr b="1" lang="en-US" sz="4400" spc="-1" strike="noStrike">
                <a:solidFill>
                  <a:srgbClr val="000000"/>
                </a:solidFill>
                <a:latin typeface="Arial"/>
              </a:rPr>
              <a:t>s  </a:t>
            </a:r>
            <a:br>
              <a:rPr sz="4400"/>
            </a:br>
            <a:r>
              <a:rPr b="1" lang="en-US" sz="4400" spc="-1" strike="noStrike">
                <a:solidFill>
                  <a:srgbClr val="000000"/>
                </a:solidFill>
                <a:latin typeface="Arial"/>
              </a:rPr>
              <a:t>Global Wikispaces</a:t>
            </a:r>
            <a:endParaRPr b="0" lang="en-US" sz="4400" spc="-1" strike="noStrike">
              <a:solidFill>
                <a:srgbClr val="000000"/>
              </a:solidFill>
              <a:latin typeface="Arial"/>
            </a:endParaRPr>
          </a:p>
        </p:txBody>
      </p:sp>
      <p:sp>
        <p:nvSpPr>
          <p:cNvPr id="78"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hsfrenchclasses.wikispaces.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oveland-lareole.wikispaces.com/  (exchange projects with school in France) http://loveland-matamata.wikispaces.com/  (exchange projects with New Zea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4"/>
          <p:cNvSpPr/>
          <p:nvPr/>
        </p:nvSpPr>
        <p:spPr>
          <a:xfrm>
            <a:off x="1785960" y="287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1295280" y="304920"/>
            <a:ext cx="693432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Global Competen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Learn "with" the worl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not just "about" the world."</a:t>
            </a:r>
            <a:endParaRPr b="0" lang="en-US" sz="2800" spc="-1" strike="noStrike">
              <a:solidFill>
                <a:srgbClr val="000000"/>
              </a:solidFill>
              <a:latin typeface="Arial"/>
            </a:endParaRPr>
          </a:p>
        </p:txBody>
      </p:sp>
      <p:sp>
        <p:nvSpPr>
          <p:cNvPr id="80" name="Rectangle 3"/>
          <p:cNvSpPr/>
          <p:nvPr/>
        </p:nvSpPr>
        <p:spPr>
          <a:xfrm>
            <a:off x="2895480" y="5257800"/>
            <a:ext cx="3505320" cy="1280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ni Theis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High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sent@gmail.co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globalcompetency.wikispaces.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82" name="PlaceHolder 2"/>
          <p:cNvSpPr>
            <a:spLocks noGrp="1"/>
          </p:cNvSpPr>
          <p:nvPr>
            <p:ph/>
          </p:nvPr>
        </p:nvSpPr>
        <p:spPr>
          <a:xfrm>
            <a:off x="533520" y="1981080"/>
            <a:ext cx="8076960" cy="4114800"/>
          </a:xfrm>
          <a:prstGeom prst="rect">
            <a:avLst/>
          </a:prstGeom>
          <a:noFill/>
          <a:ln w="0">
            <a:noFill/>
          </a:ln>
        </p:spPr>
        <p:txBody>
          <a:bodyPr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re we preparing our students to meet global challenges?</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we influence what happens in our schools when global competency is the topic of discussion?</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implications for profession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2"/>
          <p:cNvSpPr/>
          <p:nvPr/>
        </p:nvSpPr>
        <p:spPr>
          <a:xfrm>
            <a:off x="-2147484240" y="2147484240"/>
            <a:ext cx="214748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Teaching students about the world is not a subject in itself, separate from other content areas, but should be an integral part of all subjects taught. We need to open global gateways and inspire students to explore beyond their national borders.</a:t>
            </a:r>
            <a:r>
              <a:rPr b="0" lang="ja-JP" sz="1600" spc="-1" strike="noStrike">
                <a:solidFill>
                  <a:srgbClr val="000000"/>
                </a:solidFill>
                <a:latin typeface="Arial"/>
              </a:rPr>
              <a:t>”</a:t>
            </a:r>
            <a:r>
              <a:rPr b="0" lang="en-US" sz="1600" spc="-1" strike="noStrike">
                <a:solidFill>
                  <a:srgbClr val="000000"/>
                </a:solidFill>
                <a:latin typeface="Arial"/>
              </a:rPr>
              <a:t> Vivien Stewart, Becoming Citizens of the World, Educational Leadership</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Rectangle 3"/>
          <p:cNvSpPr/>
          <p:nvPr/>
        </p:nvSpPr>
        <p:spPr>
          <a:xfrm>
            <a:off x="419040" y="674640"/>
            <a:ext cx="2705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239760" y="619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380520" y="304560"/>
            <a:ext cx="8458200" cy="23619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Teaching students about the world is not a subject in itself, separate from other content areas, but should be an integral part of all subjects taught. We need to open global gateways and inspire students to explore beyond their national borders.</a:t>
            </a:r>
            <a:r>
              <a:rPr b="0" lang="ja-JP" sz="2400" spc="-1" strike="noStrike">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Vivien Stewart, Becoming Citizens of the World, Educational Leadership</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Rectangle 3"/>
          <p:cNvSpPr/>
          <p:nvPr/>
        </p:nvSpPr>
        <p:spPr>
          <a:xfrm>
            <a:off x="804960" y="46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76212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Global Competencies at the top of the list</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communicate effectively across linguistic and cultural boundar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see and understand the world from a perspective other then one's ow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understand and appreciate the diversity of societies and cultur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Rectangle 2"/>
          <p:cNvSpPr/>
          <p:nvPr/>
        </p:nvSpPr>
        <p:spPr>
          <a:xfrm>
            <a:off x="804960" y="46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76212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Essential dimensions of global competence</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60" name="PlaceHolder 2"/>
          <p:cNvSpPr>
            <a:spLocks noGrp="1"/>
          </p:cNvSpPr>
          <p:nvPr>
            <p:ph/>
          </p:nvPr>
        </p:nvSpPr>
        <p:spPr>
          <a:xfrm>
            <a:off x="533520" y="1752480"/>
            <a:ext cx="8076960" cy="4191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nvestigate the world beyond their immediate environme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ecognize their own and others</a:t>
            </a:r>
            <a:r>
              <a:rPr b="0" lang="ja-JP" sz="2800" spc="-1" strike="noStrike">
                <a:solidFill>
                  <a:srgbClr val="000000"/>
                </a:solidFill>
                <a:latin typeface="Arial"/>
              </a:rPr>
              <a: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ommunicate their ideas effectively with diverse audienc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ranslate their ideas and findings into appropriate actions to improve conditions.</a:t>
            </a:r>
            <a:endParaRPr b="0" lang="en-US" sz="2800" spc="-1" strike="noStrike">
              <a:solidFill>
                <a:srgbClr val="000000"/>
              </a:solidFill>
              <a:latin typeface="Arial"/>
            </a:endParaRPr>
          </a:p>
        </p:txBody>
      </p:sp>
      <p:sp>
        <p:nvSpPr>
          <p:cNvPr id="61" name="Rectangle 5"/>
          <p:cNvSpPr/>
          <p:nvPr/>
        </p:nvSpPr>
        <p:spPr>
          <a:xfrm>
            <a:off x="1447920" y="5867280"/>
            <a:ext cx="64008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teps: http://www.edsteps.org/CCSSO/Home.asp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Rectangle 4"/>
          <p:cNvSpPr/>
          <p:nvPr/>
        </p:nvSpPr>
        <p:spPr>
          <a:xfrm>
            <a:off x="2585880" y="1474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0" descr="Picture 1"/>
          <p:cNvPicPr/>
          <p:nvPr/>
        </p:nvPicPr>
        <p:blipFill>
          <a:blip r:embed="rId1"/>
          <a:stretch/>
        </p:blipFill>
        <p:spPr>
          <a:xfrm>
            <a:off x="3048120" y="304920"/>
            <a:ext cx="302400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5:00:28Z</dcterms:created>
  <dc:creator>Toni Theisen</dc:creator>
  <dc:description/>
  <dc:language>en-US</dc:language>
  <cp:lastModifiedBy>Joanne Rowe</cp:lastModifiedBy>
  <dcterms:modified xsi:type="dcterms:W3CDTF">2012-05-09T17:46:33Z</dcterms:modified>
  <cp:revision>76</cp:revision>
  <dc:subject/>
  <dc:title>PowerPoint Presentation</dc:title>
</cp:coreProperties>
</file>